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notesSlide6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png" ContentType="image/png"/>
  <Override PartName="/ppt/media/image34.png" ContentType="image/png"/>
  <Override PartName="/ppt/media/image12.jpeg" ContentType="image/jpeg"/>
  <Override PartName="/ppt/media/image7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2.png" ContentType="image/png"/>
  <Override PartName="/ppt/media/image32.png" ContentType="image/png"/>
  <Override PartName="/ppt/media/image30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6.jpeg" ContentType="image/jpeg"/>
  <Override PartName="/ppt/media/image60.png" ContentType="image/png"/>
  <Override PartName="/ppt/media/image10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24.wmf" ContentType="image/x-wmf"/>
  <Override PartName="/ppt/media/image59.jpeg" ContentType="image/jpeg"/>
  <Override PartName="/ppt/media/image21.jpeg" ContentType="image/jpeg"/>
  <Override PartName="/ppt/media/image29.png" ContentType="image/png"/>
  <Override PartName="/ppt/media/image27.wmf" ContentType="image/x-wmf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8.jpeg" ContentType="image/jpeg"/>
  <Override PartName="/ppt/media/image38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1.png" ContentType="image/png"/>
  <Override PartName="/ppt/media/image33.jpeg" ContentType="image/jpeg"/>
  <Override PartName="/ppt/media/image35.png" ContentType="image/png"/>
  <Override PartName="/ppt/media/image28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25.wmf" ContentType="image/x-wmf"/>
  <Override PartName="/ppt/media/image47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2.jpeg" ContentType="image/jpeg"/>
  <Override PartName="/ppt/media/image23.png" ContentType="image/png"/>
  <Override PartName="/ppt/media/image53.jpeg" ContentType="image/jpeg"/>
  <Override PartName="/ppt/media/image54.jpeg" ContentType="image/jpeg"/>
  <Override PartName="/ppt/media/image20.jpeg" ContentType="image/jpeg"/>
  <Override PartName="/ppt/media/image55.png" ContentType="image/png"/>
  <Override PartName="/ppt/media/image5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5D71-8442-4E9A-8B1D-A4C96C725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4674-F114-472A-BAB0-5A2ADD41E0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A20-F187-47DD-BF96-7145BD8CD1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questions associated with our linkage work. I will read the sl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4305-8D85-4AB5-BB03-7910E30A37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ook was published about a year ago. It is a third edition of Linking NIC and NOC to NANDA International diagnoses. This is useful in Practice, education and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C6B2-FF16-4118-978E-D1980F44C0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686C-E9F5-484B-B580-A1D40DDB23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3717-B0C9-43AF-B795-624E2D2E7F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AF03-D7F8-4B3F-9D66-DBBF6E5964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8405-42AE-4AE2-8C41-1F068DCBC2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1046-5859-4A74-B5ED-2668F62BE7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7DC-F2B3-4C0B-B603-088A5407F0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of Anxiety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8FA-BE86-426C-AF26-939DCE273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2BC7-DA67-48A1-A7A9-D2D5644A12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so linked NICs and NOCs to the Risk for diagnoses such as risk for infection. ( I will read the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2C5C-1BF6-4247-A3CA-D92DB1A103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outcomes associated with the risk factors for infection. These help nurses prevention the diagnosis of inf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25B4-9D5E-4A6C-B6E4-643AB00D9D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1C09-4AFD-42B5-9534-5F5FCF75AC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xamples of interventions that are associated with prevention of infection. (I will read a few of the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6A4-AF53-4608-B093-2593E08065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can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1CEC-0A46-4448-B364-70481B37FB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 example of a NNN linkage for the nursing diagnosis Knowledge: Readiness for Enhanced. ( I will read the components of the slide to aid transl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4736-4D20-4E23-9214-2C18EEB9AC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82AD-44A4-4F75-BB35-F9D6A6B079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aph example of how these linkages and be used and included in an electronic information system. These linkages support the clinical reasoning of the nu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9C2-E1B2-41DC-987B-086179BC07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2 slides highlight research by one of my students. She collected data on 4 oncology units at a large Midwestern hospital over 2 months. For patients with the diagnosis of acute pain, 50% improved, 35% remained the same and 15% had more p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84AB-771F-43CC-94E7-4A6AECDDE5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980B-013D-4648-B1E1-CAEF85E6A0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advantages to using NOC in specialty practice. (I will read the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06F2-9787-41D4-A10F-85F187D4B1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definition for core outcome for specialty practice. (I will read the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1B1E-25F6-4807-97CF-938A60C1B5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top 7 outcomes identified for gerontology. (I will read the li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E483-13A7-487F-AACC-E25955990B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top 8 for medical surgical nursing. (I will read the list). Med-surg nurses identified 77 core outcomes for their 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E841-1A99-443F-A4DA-E5F8FF3988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9FD-AB42-4793-907A-E2C12BF8E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52B-B8FD-4FAB-8D03-B5D28074E8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C0BE-BBC9-4661-BE44-D789E682A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BD9A-98A2-4F1A-8771-A555313719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FEE-D886-4C91-AF1C-3B2C247A8C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69DC-17EA-48BB-9838-5A018A4CD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ll read this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80C-BC9C-4C13-851B-9C87696B34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my contact information and a picture of our colle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E02-956C-4CFF-9D72-107EDA392C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ED1B-7F05-44FE-A6C2-CDC80DC0F9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D9FD-B3B9-4DF9-9819-C2CAC6FB41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F3A7-FEDB-4C69-BD4A-9A8BC4BAB60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38CC-0A46-41CA-8F4E-85278CEFEC8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B616-BFE0-4300-AF1A-6484689620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B674-AB6A-4CB9-8F9B-5B5C179A46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CAF2-19D2-4A72-ABEA-E4356ACB2E9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07BA-B45B-450F-B955-DF6ABB817E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4FCA-FC04-46A0-A9AF-F9F02CE12B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531F-C699-477B-AE7D-887ACAE4C9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0C5B-F124-484E-8D5E-915C1B1EF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7C1D-2CB1-4EAB-ABE5-3C9B2070915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92F16-8817-4196-BA4A-636BBC81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D4D43-62E5-46E1-9F8E-A4BD685C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80EA2-3EF1-4D2F-9C07-A93183F6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26926-71C3-4D1A-8D7F-E676E2E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6BFB7-9A8B-4072-8AB5-45CFDDF7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745AA-60ED-445E-A64A-C99A08FB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BB6CC-EE56-45D8-90DB-8F79171B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909A6-FDC2-419D-A47A-AAE2C1B8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3F21E-535B-4C68-BAB1-45ADF10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8A479-CA25-4F46-9789-6AC05F4F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A8C7B-582D-4FA1-8135-56162E75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0520B-053A-4D95-B4C2-BCB34AF6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ANDA-I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5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    NIC    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7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    NIC    </a:t>
            </a: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9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9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ANDA-I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32F8-1EDB-482D-B7DF-5F9BF8D595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2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NANDA-I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-25560" y="6172200"/>
            <a:ext cx="9234720" cy="685800"/>
          </a:xfrm>
          <a:prstGeom prst="rect">
            <a:avLst/>
          </a:prstGeom>
          <a:solidFill>
            <a:srgbClr val="ffe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>
            <a:off x="762120" y="1479600"/>
            <a:ext cx="74674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6/2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A0F8-5A2B-4519-85FF-5E85C4B70D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http://www.bigdaddygypsy.com/media/catalog/product/cache/1/image/8a02aedcaf38ad3a98187ab0a1dede95/c/r/crushedvelvet_panne_burgundy.jp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9" name="Text Box 13"/>
          <p:cNvSpPr/>
          <p:nvPr/>
        </p:nvSpPr>
        <p:spPr>
          <a:xfrm rot="16200000">
            <a:off x="-2855520" y="3092400"/>
            <a:ext cx="685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7f7f7f"/>
                </a:solidFill>
                <a:latin typeface="Century Gothic"/>
              </a:rPr>
              <a:t>NANDA-I</a:t>
            </a:r>
            <a:r>
              <a:rPr b="1" lang="en-US" sz="3800" spc="-1" strike="noStrike">
                <a:solidFill>
                  <a:srgbClr val="ffffff"/>
                </a:solidFill>
                <a:latin typeface="Century Gothic"/>
              </a:rPr>
              <a:t>    NIC    NO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"/>
          <p:cNvSpPr/>
          <p:nvPr/>
        </p:nvSpPr>
        <p:spPr>
          <a:xfrm>
            <a:off x="419040" y="210168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"/>
          <p:cNvSpPr/>
          <p:nvPr/>
        </p:nvSpPr>
        <p:spPr>
          <a:xfrm>
            <a:off x="468360" y="3505320"/>
            <a:ext cx="287280" cy="22860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CONStackedBlack"/>
          <p:cNvPicPr/>
          <p:nvPr/>
        </p:nvPicPr>
        <p:blipFill>
          <a:blip r:embed="rId3"/>
          <a:stretch/>
        </p:blipFill>
        <p:spPr>
          <a:xfrm>
            <a:off x="7696080" y="5410080"/>
            <a:ext cx="1204920" cy="11271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32.pn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1752480" y="380880"/>
            <a:ext cx="685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Best Practices in Nursing – Standardized Nursin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ational Library of Est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rth Estonia Medical Centre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Tallinn, Estoni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Arial"/>
              </a:rPr>
              <a:t>November 8–9, 2017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e Study: Mr. 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 year old m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s in own home with his wif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ated for congestive heart fail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ing 80 mg of Lasix each mo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d activity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s of streng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romised mo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se Study: Mr. 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ten does not remove clothing at night and resists changing clothes more that once or twice a wee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othes are frequently wet with ur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inary output over 1000 ml/d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. K reports he knows when he has to urinate but cannot reach toil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d fluid intake except for coffe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218960" y="1447560"/>
            <a:ext cx="7762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llowing assessment, nurse documents signs and symptoms for two priority nursing diagnos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rge Urinary Incontinen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ability to reach toilet in time to avoid urine lo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inary urg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ileting Self-Care Defic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ired ability to reach toil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ired ability to complete toilet hygie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aired ability to manipulate clothing for toile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rge Urinary Incontinen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218960" y="1828440"/>
            <a:ext cx="38098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Urinary Continenc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86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nowledge: Prescribed Medic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5029200" y="1828800"/>
            <a:ext cx="403848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rinary Habi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Urinary Incontinence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Pelvic Muscle Exerc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1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Teaching: Prescribed Med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893000" y="22860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Baseline R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18960" y="160020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all NOC rating for Urinary Contin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ds to urge in timely mann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 to toilet between urge and passage of ur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s adequate amount of flu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es medication that interferes with urinary contr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d Mr. K as a “3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Urinary Continence--050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rcRect l="0" t="0" r="5279" b="0"/>
          <a:stretch/>
        </p:blipFill>
        <p:spPr>
          <a:xfrm>
            <a:off x="41400" y="2666880"/>
            <a:ext cx="9077040" cy="2016360"/>
          </a:xfrm>
          <a:prstGeom prst="rect">
            <a:avLst/>
          </a:prstGeom>
          <a:ln w="0">
            <a:noFill/>
          </a:ln>
        </p:spPr>
      </p:pic>
      <p:sp>
        <p:nvSpPr>
          <p:cNvPr id="378" name="Oval 2"/>
          <p:cNvSpPr/>
          <p:nvPr/>
        </p:nvSpPr>
        <p:spPr>
          <a:xfrm>
            <a:off x="5773680" y="3962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IC Implement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75212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inary Habit Trai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tablished interval of initial toileting schedule based on voiding pattern and usual rout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couraged patient to toilet and void at prescribed interv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5" descr="C:\Users\ssweeney\AppData\Local\Microsoft\Windows\Temporary Internet Files\Content.IE5\7F6GMV81\MC900442001[1].png"/>
          <p:cNvPicPr/>
          <p:nvPr/>
        </p:nvPicPr>
        <p:blipFill>
          <a:blip r:embed="rId1"/>
          <a:stretch/>
        </p:blipFill>
        <p:spPr>
          <a:xfrm>
            <a:off x="626436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C:\Users\ssweeney\AppData\Local\Microsoft\Windows\Temporary Internet Files\Content.IE5\51UUINOY\Old_man_in_Kyrgyzstan,_2010[1].jpg"/>
          <p:cNvPicPr/>
          <p:nvPr/>
        </p:nvPicPr>
        <p:blipFill>
          <a:blip r:embed="rId2"/>
          <a:srcRect l="43138" t="0" r="0" b="0"/>
          <a:stretch/>
        </p:blipFill>
        <p:spPr>
          <a:xfrm>
            <a:off x="7772400" y="15228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294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Post Intervention Ra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47920" y="160020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all NOC rating Urinary Contine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ds to urge in timely mann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s to toilet between urge and passage of urin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inks adequate amount of flui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es medication that interferes with urinary contr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ed Mr. K as a “4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7467480" y="5486400"/>
            <a:ext cx="9907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Urinary Continence--050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rcRect l="0" t="0" r="5279" b="0"/>
          <a:stretch/>
        </p:blipFill>
        <p:spPr>
          <a:xfrm>
            <a:off x="41400" y="2666880"/>
            <a:ext cx="9077040" cy="2016360"/>
          </a:xfrm>
          <a:prstGeom prst="rect">
            <a:avLst/>
          </a:prstGeom>
          <a:ln w="0">
            <a:noFill/>
          </a:ln>
        </p:spPr>
      </p:pic>
      <p:sp>
        <p:nvSpPr>
          <p:cNvPr id="388" name="Oval 2"/>
          <p:cNvSpPr/>
          <p:nvPr/>
        </p:nvSpPr>
        <p:spPr>
          <a:xfrm>
            <a:off x="7010280" y="3962520"/>
            <a:ext cx="914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ting Indicator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possible to rate all indicato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we know some are more important than oth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…. we do not suggest adding the indicators to get an a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e research is needed to identify the critical indicators for each outco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152388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NNN Linkages as the Foundation of Building an Electronic Healthcare Record    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371600" y="403848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e Moorhead PhD, RN, FA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ociate Professor &amp; Director Center for Nursing Classification  &amp; Clinical Effective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versity of Iowa, Iowa City, I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" descr="IEEE -CoNlogo_horizontal_BLACK&amp;GOLDsignature"/>
          <p:cNvPicPr/>
          <p:nvPr/>
        </p:nvPicPr>
        <p:blipFill>
          <a:blip r:embed="rId1"/>
          <a:stretch/>
        </p:blipFill>
        <p:spPr>
          <a:xfrm>
            <a:off x="6477120" y="404640"/>
            <a:ext cx="20764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engths of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2193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d terminologies by A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nical decision support framewor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-based plans of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nurse staff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student lear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staff education/evalu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earch-based nursing knowled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olves with changes in clinical practi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7156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ag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47560" y="14475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outcomes and interventions are selected for a specific nursing diagnosis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interventions are selected most frequently for a specific outcome or diagnosis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hat interventions achieve the best outcomes for a specific population of patients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age Ques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371240" y="1523520"/>
            <a:ext cx="7620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the effectiveness of an intervention vary with patient characteristic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the effectiveness of the intervention vary with provider characteristic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some interventions more effective when used in combination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the frequency of an intervention have an impact on the outcome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55400" y="228240"/>
            <a:ext cx="7467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</a:rPr>
              <a:t>Three Editions of NNN Linkages</a:t>
            </a: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2041560" cy="24544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2057400" cy="2960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1447920" y="1752480"/>
            <a:ext cx="205740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C and NIC Linkages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 &amp; Clinical Condi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95280" y="17226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cribes relationships among NANDA-I, NOC, and NIC term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cludes examples of clinical condi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an be used i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3" descr="Linkage 3rd.jpg"/>
          <p:cNvPicPr/>
          <p:nvPr/>
        </p:nvPicPr>
        <p:blipFill>
          <a:blip r:embed="rId1"/>
          <a:stretch/>
        </p:blipFill>
        <p:spPr>
          <a:xfrm>
            <a:off x="5867280" y="2057400"/>
            <a:ext cx="29941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Working with Linkages</a:t>
            </a: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19320" y="1898280"/>
            <a:ext cx="74325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 a Nursing Diagnosis and examine the list of NOCs and N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s are provided for all diagnoses and outcom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linkages have been validated with clinical research from actual patient data from EH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8052-2262-485A-B3E8-1B0436AB33C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Example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3" descr="C:\Users\ssweeney\AppData\Local\Microsoft\Windows\Temporary Internet Files\Content.IE5\51UUINOY\trabajo_en_equipo[1].jpg"/>
          <p:cNvPicPr/>
          <p:nvPr/>
        </p:nvPicPr>
        <p:blipFill>
          <a:blip r:embed="rId1"/>
          <a:stretch/>
        </p:blipFill>
        <p:spPr>
          <a:xfrm>
            <a:off x="3246480" y="365760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716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pecific format has been designed to assist nurses to chose outcomes and interventions for a NANDA-I diagnos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imited number of outcomes are included for ease of u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ventions are divided into 2 categ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1447920" y="2286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Nursing Diagnosis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1295280" y="1428840"/>
          <a:ext cx="7772400" cy="4971960"/>
        </p:xfrm>
        <a:graphic>
          <a:graphicData uri="http://schemas.openxmlformats.org/drawingml/2006/table">
            <a:tbl>
              <a:tblPr/>
              <a:tblGrid>
                <a:gridCol w="1884600"/>
                <a:gridCol w="1884240"/>
                <a:gridCol w="1884240"/>
                <a:gridCol w="2119320"/>
              </a:tblGrid>
              <a:tr h="53316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DIAGNOS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 &amp;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  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600"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rsing Data for Electronic Health Recor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ortant to capture nursing data to make the contributions of nurses to quality care visib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rsing terminologies provide the needed care plan data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ing diagno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ing interven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ient outco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http://www.bigdaddygypsy.com/media/catalog/product/cache/1/image/8a02aedcaf38ad3a98187ab0a1dede95/c/r/crushedvelvet_panne_burgundy.jpg"/>
          <p:cNvPicPr/>
          <p:nvPr/>
        </p:nvPicPr>
        <p:blipFill>
          <a:blip r:embed="rId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313" name="Picture 2" descr="http://www.bigdaddygypsy.com/media/catalog/product/cache/1/image/8a02aedcaf38ad3a98187ab0a1dede95/c/r/crushedvelvet_panne_burgund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572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pic>
        <p:nvPicPr>
          <p:cNvPr id="314" name="Picture 2" descr=""/>
          <p:cNvPicPr/>
          <p:nvPr/>
        </p:nvPicPr>
        <p:blipFill>
          <a:blip r:embed="rId3"/>
          <a:stretch/>
        </p:blipFill>
        <p:spPr>
          <a:xfrm>
            <a:off x="0" y="990720"/>
            <a:ext cx="841392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ual Problem Focus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ursing Diagnos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67652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xie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aired Skin Integr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icient Fluid Volum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4" descr="C:\Users\moorhead\AppData\Local\Microsoft\Windows\Temporary Internet Files\Content.IE5\0M1VH00N\otros_trabajos_académicos[1].jpg"/>
          <p:cNvPicPr/>
          <p:nvPr/>
        </p:nvPicPr>
        <p:blipFill>
          <a:blip r:embed="rId1"/>
          <a:stretch/>
        </p:blipFill>
        <p:spPr>
          <a:xfrm>
            <a:off x="4713120" y="3886200"/>
            <a:ext cx="39625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"/>
          <p:cNvSpPr/>
          <p:nvPr/>
        </p:nvSpPr>
        <p:spPr>
          <a:xfrm>
            <a:off x="0" y="228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Anxiety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Vague uneasy feeling of discomfort or dread accompanied by an autonomic response (the source often nonspecific or unknown to the individual); a feeling of apprehension caused by anticipation of danger. It is an altering signal that warns of impending danger and enables the individual to take measures to deal with that thr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0" y="2209680"/>
          <a:ext cx="9144000" cy="46562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49680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ANXIE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0840"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ety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Severity of manifested apprehension, tension, or uneasiness arising from an unidentifiable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e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ming Techn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List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ger Control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oma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genic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ping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sis 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ision-Making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entia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entia Management: Ba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Admin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ic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ocation Stress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ep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urity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al Signs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22"/>
          <p:cNvGrpSpPr/>
          <p:nvPr/>
        </p:nvGrpSpPr>
        <p:grpSpPr>
          <a:xfrm>
            <a:off x="252360" y="1071720"/>
            <a:ext cx="8880480" cy="5562360"/>
            <a:chOff x="252360" y="1071720"/>
            <a:chExt cx="8880480" cy="5562360"/>
          </a:xfrm>
        </p:grpSpPr>
        <p:sp>
          <p:nvSpPr>
            <p:cNvPr id="423" name="Oval 2"/>
            <p:cNvSpPr/>
            <p:nvPr/>
          </p:nvSpPr>
          <p:spPr>
            <a:xfrm>
              <a:off x="4138560" y="366228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3"/>
            <p:cNvSpPr/>
            <p:nvPr/>
          </p:nvSpPr>
          <p:spPr>
            <a:xfrm>
              <a:off x="252360" y="488160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3300120" y="1147680"/>
              <a:ext cx="1904760" cy="15570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xiety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4252680" y="2717280"/>
              <a:ext cx="305640" cy="1035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11"/>
            <p:cNvSpPr/>
            <p:nvPr/>
          </p:nvSpPr>
          <p:spPr>
            <a:xfrm>
              <a:off x="5662440" y="1071720"/>
              <a:ext cx="1752480" cy="15570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alming Tech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2"/>
            <p:cNvSpPr/>
            <p:nvPr/>
          </p:nvSpPr>
          <p:spPr>
            <a:xfrm flipH="1">
              <a:off x="5311440" y="2717280"/>
              <a:ext cx="1089720" cy="1244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14"/>
            <p:cNvSpPr/>
            <p:nvPr/>
          </p:nvSpPr>
          <p:spPr>
            <a:xfrm>
              <a:off x="480960" y="1147680"/>
              <a:ext cx="2057400" cy="13816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xie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1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5"/>
            <p:cNvSpPr/>
            <p:nvPr/>
          </p:nvSpPr>
          <p:spPr>
            <a:xfrm>
              <a:off x="2210400" y="2622240"/>
              <a:ext cx="2042280" cy="1424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7"/>
            <p:cNvSpPr/>
            <p:nvPr/>
          </p:nvSpPr>
          <p:spPr>
            <a:xfrm>
              <a:off x="404640" y="340416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istr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9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 flipV="1">
              <a:off x="2797200" y="451692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0"/>
            <p:cNvSpPr/>
            <p:nvPr/>
          </p:nvSpPr>
          <p:spPr>
            <a:xfrm>
              <a:off x="5913360" y="4046760"/>
              <a:ext cx="3219480" cy="25477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xiety 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2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vere to None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1"/>
            <p:cNvSpPr/>
            <p:nvPr/>
          </p:nvSpPr>
          <p:spPr>
            <a:xfrm flipH="1" flipV="1">
              <a:off x="5213880" y="4644000"/>
              <a:ext cx="698760" cy="61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"/>
          <p:cNvSpPr/>
          <p:nvPr/>
        </p:nvSpPr>
        <p:spPr>
          <a:xfrm>
            <a:off x="0" y="2286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Impaired Skin Integrity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Altered epidermis and or dermis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0" y="1676520"/>
          <a:ext cx="9067680" cy="4655880"/>
        </p:xfrm>
        <a:graphic>
          <a:graphicData uri="http://schemas.openxmlformats.org/drawingml/2006/table">
            <a:tbl>
              <a:tblPr/>
              <a:tblGrid>
                <a:gridCol w="2365200"/>
                <a:gridCol w="2365560"/>
                <a:gridCol w="2365200"/>
                <a:gridCol w="1971720"/>
              </a:tblGrid>
              <a:tr h="85356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IMPAIRED SKIN INTEG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652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ssue Integrity: Skin and Mucous Membra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Structural Intactness and normal physiological function of skin and mucous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Surveil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puta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tory Care: Arterial Insu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latory Care: Venous Insu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Administration: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omy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itio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Ulcer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Care: Topical Treat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685800" y="5673600"/>
            <a:ext cx="487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dapted from Harris, M., Graves, J. R., Solbrig, H.R., Elkin, P.L., Chute, C.G. (2000). Embedded structures and nursing knowledge representation. Journal of the American Medical Informatics Association.  7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22"/>
          <p:cNvGrpSpPr/>
          <p:nvPr/>
        </p:nvGrpSpPr>
        <p:grpSpPr>
          <a:xfrm>
            <a:off x="190440" y="1096920"/>
            <a:ext cx="8925120" cy="5562720"/>
            <a:chOff x="190440" y="1096920"/>
            <a:chExt cx="8925120" cy="5562720"/>
          </a:xfrm>
        </p:grpSpPr>
        <p:sp>
          <p:nvSpPr>
            <p:cNvPr id="441" name="Oval 2"/>
            <p:cNvSpPr/>
            <p:nvPr/>
          </p:nvSpPr>
          <p:spPr>
            <a:xfrm>
              <a:off x="4076280" y="368784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3"/>
            <p:cNvSpPr/>
            <p:nvPr/>
          </p:nvSpPr>
          <p:spPr>
            <a:xfrm>
              <a:off x="190440" y="490716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3238200" y="1172880"/>
              <a:ext cx="190476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sure Management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9"/>
            <p:cNvSpPr/>
            <p:nvPr/>
          </p:nvSpPr>
          <p:spPr>
            <a:xfrm>
              <a:off x="4192200" y="292716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1"/>
            <p:cNvSpPr/>
            <p:nvPr/>
          </p:nvSpPr>
          <p:spPr>
            <a:xfrm>
              <a:off x="5600520" y="1096920"/>
              <a:ext cx="175248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sure Ulcer Care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5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 flipH="1">
              <a:off x="5249880" y="2878920"/>
              <a:ext cx="1226880" cy="110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4"/>
            <p:cNvSpPr/>
            <p:nvPr/>
          </p:nvSpPr>
          <p:spPr>
            <a:xfrm>
              <a:off x="418680" y="1172880"/>
              <a:ext cx="2057040" cy="17474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mpaired Skin Integrity 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0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5"/>
            <p:cNvSpPr/>
            <p:nvPr/>
          </p:nvSpPr>
          <p:spPr>
            <a:xfrm>
              <a:off x="2506320" y="2851200"/>
              <a:ext cx="159984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17"/>
            <p:cNvSpPr/>
            <p:nvPr/>
          </p:nvSpPr>
          <p:spPr>
            <a:xfrm>
              <a:off x="342720" y="342972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ssure Ulc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revention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5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 flipV="1">
              <a:off x="2734920" y="454248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0"/>
            <p:cNvSpPr/>
            <p:nvPr/>
          </p:nvSpPr>
          <p:spPr>
            <a:xfrm>
              <a:off x="6143760" y="3512160"/>
              <a:ext cx="2971800" cy="29761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issue Integrity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kin and Muco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1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romised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1"/>
            <p:cNvSpPr/>
            <p:nvPr/>
          </p:nvSpPr>
          <p:spPr>
            <a:xfrm flipH="1" flipV="1">
              <a:off x="5127480" y="4743000"/>
              <a:ext cx="1044720" cy="51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2"/>
          <p:cNvSpPr/>
          <p:nvPr/>
        </p:nvSpPr>
        <p:spPr>
          <a:xfrm>
            <a:off x="0" y="228600"/>
            <a:ext cx="91440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Deficient Fluid Volum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Decreased intravascular, interstitial, and/or intra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0" y="2201760"/>
          <a:ext cx="8991720" cy="4656240"/>
        </p:xfrm>
        <a:graphic>
          <a:graphicData uri="http://schemas.openxmlformats.org/drawingml/2006/table">
            <a:tbl>
              <a:tblPr/>
              <a:tblGrid>
                <a:gridCol w="2359080"/>
                <a:gridCol w="2209680"/>
                <a:gridCol w="2211480"/>
                <a:gridCol w="2211480"/>
              </a:tblGrid>
              <a:tr h="85356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DEFICIT FLUID VOLU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72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Water balance in the intracellular and extracellular compartments of the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al Tube Fee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id Resusc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ck Preventi0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tal Signs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22"/>
          <p:cNvGrpSpPr/>
          <p:nvPr/>
        </p:nvGrpSpPr>
        <p:grpSpPr>
          <a:xfrm>
            <a:off x="198360" y="1071720"/>
            <a:ext cx="8869320" cy="5562360"/>
            <a:chOff x="198360" y="1071720"/>
            <a:chExt cx="8869320" cy="5562360"/>
          </a:xfrm>
        </p:grpSpPr>
        <p:sp>
          <p:nvSpPr>
            <p:cNvPr id="458" name="Oval 2"/>
            <p:cNvSpPr/>
            <p:nvPr/>
          </p:nvSpPr>
          <p:spPr>
            <a:xfrm>
              <a:off x="4084200" y="366228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"/>
            <p:cNvSpPr/>
            <p:nvPr/>
          </p:nvSpPr>
          <p:spPr>
            <a:xfrm>
              <a:off x="198360" y="488160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8"/>
            <p:cNvSpPr/>
            <p:nvPr/>
          </p:nvSpPr>
          <p:spPr>
            <a:xfrm>
              <a:off x="3246120" y="1147680"/>
              <a:ext cx="190476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nagement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9"/>
            <p:cNvSpPr/>
            <p:nvPr/>
          </p:nvSpPr>
          <p:spPr>
            <a:xfrm>
              <a:off x="4200120" y="290196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11"/>
            <p:cNvSpPr/>
            <p:nvPr/>
          </p:nvSpPr>
          <p:spPr>
            <a:xfrm>
              <a:off x="5608440" y="1071720"/>
              <a:ext cx="175248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 Monitoring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2"/>
            <p:cNvSpPr/>
            <p:nvPr/>
          </p:nvSpPr>
          <p:spPr>
            <a:xfrm flipH="1">
              <a:off x="5257800" y="2853720"/>
              <a:ext cx="1226880" cy="110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4"/>
            <p:cNvSpPr/>
            <p:nvPr/>
          </p:nvSpPr>
          <p:spPr>
            <a:xfrm>
              <a:off x="426960" y="1147680"/>
              <a:ext cx="2057040" cy="17474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eficient Fluid Volume 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0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5"/>
            <p:cNvSpPr/>
            <p:nvPr/>
          </p:nvSpPr>
          <p:spPr>
            <a:xfrm>
              <a:off x="2484000" y="2853720"/>
              <a:ext cx="159984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350640" y="340416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/Electroly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20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8"/>
            <p:cNvSpPr/>
            <p:nvPr/>
          </p:nvSpPr>
          <p:spPr>
            <a:xfrm flipV="1">
              <a:off x="2743200" y="451692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0"/>
            <p:cNvSpPr/>
            <p:nvPr/>
          </p:nvSpPr>
          <p:spPr>
            <a:xfrm>
              <a:off x="6172200" y="3676680"/>
              <a:ext cx="2895480" cy="25477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luid Bal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6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romised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 flipH="1" flipV="1">
              <a:off x="5160240" y="4644000"/>
              <a:ext cx="1011600" cy="61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nkages: Risk for Nursing Diagnosi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5440" y="1676520"/>
            <a:ext cx="3809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isk for Infectio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3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3962520" y="1828800"/>
            <a:ext cx="4248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fection, Risk for</a:t>
            </a: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At increased risk for being invaded by pathogenic organis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685800" y="275544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Cs to assess and measure actual occurrence of the diagno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Sev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 Severity: New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6324480" y="396252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380880" y="380880"/>
          <a:ext cx="8458200" cy="65516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672560"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S ASSOCIATED WITH RISK FACTORS FOR INFECTION (19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908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rn H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ty Risk Control: Communicable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rointestinal Fun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e 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zation 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nal Status: Ante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nal Status: Intra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al Status: Nutrient In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nal Status: Postpar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al Status: Nutrient In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 Hygi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al Injury Seve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Control: Infectious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Control: Sexually Transmitted Diseases (ST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ssue Integrity: Skin &amp; Muc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bra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Healing: Primary In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Healing: Secondary In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Picture 2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3733920" y="5148360"/>
            <a:ext cx="19047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5"/>
          <p:cNvGrpSpPr/>
          <p:nvPr/>
        </p:nvGrpSpPr>
        <p:grpSpPr>
          <a:xfrm>
            <a:off x="152280" y="152280"/>
            <a:ext cx="8839440" cy="6205680"/>
            <a:chOff x="152280" y="152280"/>
            <a:chExt cx="8839440" cy="6205680"/>
          </a:xfrm>
        </p:grpSpPr>
        <p:sp>
          <p:nvSpPr>
            <p:cNvPr id="316" name="Text Box 55"/>
            <p:cNvSpPr/>
            <p:nvPr/>
          </p:nvSpPr>
          <p:spPr>
            <a:xfrm>
              <a:off x="1828440" y="152280"/>
              <a:ext cx="6629760" cy="368280"/>
            </a:xfrm>
            <a:prstGeom prst="rect">
              <a:avLst/>
            </a:prstGeom>
            <a:solidFill>
              <a:srgbClr val="dbeef4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Nursing Knowledge</a:t>
              </a:r>
              <a:r>
                <a:rPr b="1" lang="ja-JP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59"/>
            <p:cNvSpPr/>
            <p:nvPr/>
          </p:nvSpPr>
          <p:spPr>
            <a:xfrm>
              <a:off x="1981080" y="1501920"/>
              <a:ext cx="1905120" cy="905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iagnosi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assification</a:t>
              </a:r>
              <a:r>
                <a:rPr b="1" lang="ja-JP" sz="14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　　　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60"/>
            <p:cNvSpPr/>
            <p:nvPr/>
          </p:nvSpPr>
          <p:spPr>
            <a:xfrm>
              <a:off x="6400800" y="1500120"/>
              <a:ext cx="1981080" cy="70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Inter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assific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61"/>
            <p:cNvSpPr/>
            <p:nvPr/>
          </p:nvSpPr>
          <p:spPr>
            <a:xfrm>
              <a:off x="4267080" y="1500120"/>
              <a:ext cx="1905120" cy="70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Outco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as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209680" y="2743200"/>
              <a:ext cx="1066680" cy="368280"/>
            </a:xfrm>
            <a:prstGeom prst="rect">
              <a:avLst/>
            </a:prstGeom>
            <a:solidFill>
              <a:srgbClr val="bff0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hoic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4648320" y="2743200"/>
              <a:ext cx="1066680" cy="368280"/>
            </a:xfrm>
            <a:prstGeom prst="rect">
              <a:avLst/>
            </a:prstGeom>
            <a:solidFill>
              <a:srgbClr val="bff0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hoic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6858000" y="2743200"/>
              <a:ext cx="1066680" cy="368280"/>
            </a:xfrm>
            <a:prstGeom prst="rect">
              <a:avLst/>
            </a:prstGeom>
            <a:solidFill>
              <a:srgbClr val="bff0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hoice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7"/>
            <p:cNvSpPr/>
            <p:nvPr/>
          </p:nvSpPr>
          <p:spPr>
            <a:xfrm>
              <a:off x="152280" y="2743200"/>
              <a:ext cx="1143000" cy="580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Clinical Reaso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8"/>
            <p:cNvSpPr/>
            <p:nvPr/>
          </p:nvSpPr>
          <p:spPr>
            <a:xfrm>
              <a:off x="1295280" y="3047760"/>
              <a:ext cx="761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28"/>
            <p:cNvSpPr/>
            <p:nvPr/>
          </p:nvSpPr>
          <p:spPr>
            <a:xfrm>
              <a:off x="4495680" y="1066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29"/>
            <p:cNvSpPr/>
            <p:nvPr/>
          </p:nvSpPr>
          <p:spPr>
            <a:xfrm>
              <a:off x="1218960" y="3733920"/>
              <a:ext cx="2514600" cy="91692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ystematic 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agnostic accu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ent prior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30"/>
            <p:cNvSpPr/>
            <p:nvPr/>
          </p:nvSpPr>
          <p:spPr>
            <a:xfrm>
              <a:off x="3809880" y="3733920"/>
              <a:ext cx="2590920" cy="91692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easurement accura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ngitudinal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ent 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31"/>
            <p:cNvSpPr/>
            <p:nvPr/>
          </p:nvSpPr>
          <p:spPr>
            <a:xfrm>
              <a:off x="6553440" y="3733920"/>
              <a:ext cx="2438280" cy="91692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vidence base &amp; C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tient prefere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etenc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Straight Arrow Connector 33"/>
            <p:cNvCxnSpPr/>
            <p:nvPr/>
          </p:nvCxnSpPr>
          <p:spPr>
            <a:xfrm flipH="1">
              <a:off x="7389720" y="316548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0" name="Straight Arrow Connector 36"/>
            <p:cNvCxnSpPr/>
            <p:nvPr/>
          </p:nvCxnSpPr>
          <p:spPr>
            <a:xfrm flipH="1">
              <a:off x="5181120" y="316548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1" name="Straight Arrow Connector 37"/>
            <p:cNvCxnSpPr/>
            <p:nvPr/>
          </p:nvCxnSpPr>
          <p:spPr>
            <a:xfrm flipH="1">
              <a:off x="2742840" y="316548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2" name="Straight Arrow Connector 42"/>
            <p:cNvCxnSpPr/>
            <p:nvPr/>
          </p:nvCxnSpPr>
          <p:spPr>
            <a:xfrm flipH="1">
              <a:off x="7389720" y="228600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3" name="Straight Arrow Connector 43"/>
            <p:cNvCxnSpPr/>
            <p:nvPr/>
          </p:nvCxnSpPr>
          <p:spPr>
            <a:xfrm flipH="1">
              <a:off x="5181120" y="228600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4" name="Straight Arrow Connector 44"/>
            <p:cNvCxnSpPr/>
            <p:nvPr/>
          </p:nvCxnSpPr>
          <p:spPr>
            <a:xfrm flipH="1">
              <a:off x="2742840" y="2286000"/>
              <a:ext cx="2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35" name="Right Bracket 47"/>
            <p:cNvSpPr/>
            <p:nvPr/>
          </p:nvSpPr>
          <p:spPr>
            <a:xfrm>
              <a:off x="5562720" y="1142640"/>
              <a:ext cx="3048120" cy="1295280"/>
            </a:xfrm>
            <a:custGeom>
              <a:avLst/>
              <a:gdLst>
                <a:gd name="textAreaLeft" fmla="*/ 0 w 3048120"/>
                <a:gd name="textAreaRight" fmla="*/ 2138040 w 3048120"/>
                <a:gd name="textAreaTop" fmla="*/ 133200 h 1295280"/>
                <a:gd name="textAreaBottom" fmla="*/ 11620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224"/>
                    <a:pt x="21600" y="4447"/>
                  </a:cubicBezTo>
                  <a:lnTo>
                    <a:pt x="21600" y="17153"/>
                  </a:lnTo>
                  <a:cubicBezTo>
                    <a:pt x="21600" y="19377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ight Bracket 48"/>
            <p:cNvSpPr/>
            <p:nvPr/>
          </p:nvSpPr>
          <p:spPr>
            <a:xfrm rot="10800000">
              <a:off x="1828080" y="1142280"/>
              <a:ext cx="2895480" cy="1295280"/>
            </a:xfrm>
            <a:custGeom>
              <a:avLst/>
              <a:gdLst>
                <a:gd name="textAreaLeft" fmla="*/ 0 w 2895480"/>
                <a:gd name="textAreaRight" fmla="*/ 2030760 w 2895480"/>
                <a:gd name="textAreaTop" fmla="*/ 120960 h 1295280"/>
                <a:gd name="textAreaBottom" fmla="*/ 11743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20"/>
                    <a:pt x="21600" y="4040"/>
                  </a:cubicBezTo>
                  <a:lnTo>
                    <a:pt x="21600" y="17560"/>
                  </a:lnTo>
                  <a:cubicBezTo>
                    <a:pt x="21600" y="1958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49"/>
            <p:cNvSpPr/>
            <p:nvPr/>
          </p:nvSpPr>
          <p:spPr>
            <a:xfrm>
              <a:off x="1904760" y="5715360"/>
              <a:ext cx="6782040" cy="642600"/>
            </a:xfrm>
            <a:prstGeom prst="rect">
              <a:avLst/>
            </a:prstGeom>
            <a:noFill/>
            <a:ln w="93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els of Care for Populatio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edictive  Care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d on Practice Evid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Straight Arrow Connector 51"/>
            <p:cNvCxnSpPr/>
            <p:nvPr/>
          </p:nvCxnSpPr>
          <p:spPr>
            <a:xfrm flipH="1" flipV="1">
              <a:off x="2666520" y="4723920"/>
              <a:ext cx="45792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39" name="Straight Arrow Connector 56"/>
            <p:cNvCxnSpPr/>
            <p:nvPr/>
          </p:nvCxnSpPr>
          <p:spPr>
            <a:xfrm flipH="1">
              <a:off x="5181120" y="4800600"/>
              <a:ext cx="2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0" name="Straight Arrow Connector 59"/>
            <p:cNvCxnSpPr/>
            <p:nvPr/>
          </p:nvCxnSpPr>
          <p:spPr>
            <a:xfrm flipH="1">
              <a:off x="7315200" y="4724640"/>
              <a:ext cx="45792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1" name="Straight Arrow Connector 63"/>
            <p:cNvCxnSpPr/>
            <p:nvPr/>
          </p:nvCxnSpPr>
          <p:spPr>
            <a:xfrm flipH="1">
              <a:off x="2971080" y="685440"/>
              <a:ext cx="6102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2" name="Straight Arrow Connector 67"/>
            <p:cNvCxnSpPr/>
            <p:nvPr/>
          </p:nvCxnSpPr>
          <p:spPr>
            <a:xfrm flipH="1">
              <a:off x="5181120" y="609480"/>
              <a:ext cx="216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343" name="Straight Arrow Connector 78"/>
            <p:cNvCxnSpPr/>
            <p:nvPr/>
          </p:nvCxnSpPr>
          <p:spPr>
            <a:xfrm>
              <a:off x="6400800" y="685440"/>
              <a:ext cx="4579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44" name="TextBox 82"/>
            <p:cNvSpPr/>
            <p:nvPr/>
          </p:nvSpPr>
          <p:spPr>
            <a:xfrm>
              <a:off x="3809880" y="541008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ture Knowl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Straight Connector 34"/>
          <p:cNvSpPr/>
          <p:nvPr/>
        </p:nvSpPr>
        <p:spPr>
          <a:xfrm flipH="1">
            <a:off x="302760" y="3430440"/>
            <a:ext cx="32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41"/>
          <p:cNvCxnSpPr/>
          <p:nvPr/>
        </p:nvCxnSpPr>
        <p:spPr>
          <a:xfrm>
            <a:off x="290520" y="4114800"/>
            <a:ext cx="8388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228600" y="228600"/>
          <a:ext cx="8734320" cy="6027840"/>
        </p:xfrm>
        <a:graphic>
          <a:graphicData uri="http://schemas.openxmlformats.org/drawingml/2006/table">
            <a:tbl>
              <a:tblPr/>
              <a:tblGrid>
                <a:gridCol w="3060720"/>
                <a:gridCol w="2911320"/>
                <a:gridCol w="2762280"/>
              </a:tblGrid>
              <a:tr h="523800">
                <a:tc gridSpan="3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S ASSOCIATED WITH PREVENTION OF INF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04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puta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sarean Sec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rcumcis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ble Disease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gh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zation/Vaccin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sion Site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Control: Intrao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 Prot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art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partal Care: High-Risk Deliv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ritional 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 Health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 Health Resto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ne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part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nancy Termination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Ulcer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sure Ulcer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uritus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Care: Donor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Care: Graft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veil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n Surveill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ing: Safe 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e Care: Ur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Care: Bu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Care: Closed 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und Irr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9" name="Picture 2" descr="C:\Users\moorhead\AppData\Local\Microsoft\Windows\Temporary Internet Files\Content.IE5\12Z0CADB\risk-icon[1].jpg"/>
          <p:cNvPicPr/>
          <p:nvPr/>
        </p:nvPicPr>
        <p:blipFill>
          <a:blip r:embed="rId1"/>
          <a:stretch/>
        </p:blipFill>
        <p:spPr>
          <a:xfrm>
            <a:off x="3733920" y="4648320"/>
            <a:ext cx="19047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22"/>
          <p:cNvGrpSpPr/>
          <p:nvPr/>
        </p:nvGrpSpPr>
        <p:grpSpPr>
          <a:xfrm>
            <a:off x="179280" y="1095480"/>
            <a:ext cx="8925120" cy="5562360"/>
            <a:chOff x="179280" y="1095480"/>
            <a:chExt cx="8925120" cy="5562360"/>
          </a:xfrm>
        </p:grpSpPr>
        <p:sp>
          <p:nvSpPr>
            <p:cNvPr id="483" name="Oval 2"/>
            <p:cNvSpPr/>
            <p:nvPr/>
          </p:nvSpPr>
          <p:spPr>
            <a:xfrm>
              <a:off x="4065120" y="368604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3"/>
            <p:cNvSpPr/>
            <p:nvPr/>
          </p:nvSpPr>
          <p:spPr>
            <a:xfrm>
              <a:off x="179280" y="490536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8"/>
            <p:cNvSpPr/>
            <p:nvPr/>
          </p:nvSpPr>
          <p:spPr>
            <a:xfrm>
              <a:off x="3227040" y="1171440"/>
              <a:ext cx="190476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ection Protection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5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>
              <a:off x="4181040" y="292572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5589360" y="1095480"/>
              <a:ext cx="1752480" cy="174744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cision Site Care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34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 flipH="1">
              <a:off x="5238720" y="2877480"/>
              <a:ext cx="1226880" cy="1108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14"/>
            <p:cNvSpPr/>
            <p:nvPr/>
          </p:nvSpPr>
          <p:spPr>
            <a:xfrm>
              <a:off x="407520" y="1171440"/>
              <a:ext cx="2057040" cy="19378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isk for Inf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2495160" y="2849400"/>
              <a:ext cx="159984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7"/>
            <p:cNvSpPr/>
            <p:nvPr/>
          </p:nvSpPr>
          <p:spPr>
            <a:xfrm>
              <a:off x="331560" y="3427920"/>
              <a:ext cx="239220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urveill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6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8"/>
            <p:cNvSpPr/>
            <p:nvPr/>
          </p:nvSpPr>
          <p:spPr>
            <a:xfrm flipV="1">
              <a:off x="2723760" y="4540680"/>
              <a:ext cx="145692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20"/>
            <p:cNvSpPr/>
            <p:nvPr/>
          </p:nvSpPr>
          <p:spPr>
            <a:xfrm>
              <a:off x="6132600" y="3510360"/>
              <a:ext cx="2971800" cy="29761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fection Sever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7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verity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1"/>
            <p:cNvSpPr/>
            <p:nvPr/>
          </p:nvSpPr>
          <p:spPr>
            <a:xfrm flipH="1" flipV="1">
              <a:off x="5116320" y="4741200"/>
              <a:ext cx="1044720" cy="51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ages for Readiness Nursing Diagno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447920" y="1676520"/>
            <a:ext cx="30477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iness for Enhanced Knowled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2" descr="C:\Users\moorhead\AppData\Local\Microsoft\Windows\Temporary Internet Files\Content.IE5\YKX12JS4\knowledge_quote[1].jpg"/>
          <p:cNvPicPr/>
          <p:nvPr/>
        </p:nvPicPr>
        <p:blipFill>
          <a:blip r:embed="rId1"/>
          <a:stretch/>
        </p:blipFill>
        <p:spPr>
          <a:xfrm>
            <a:off x="4800600" y="2895480"/>
            <a:ext cx="41148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2"/>
          <p:cNvSpPr/>
          <p:nvPr/>
        </p:nvSpPr>
        <p:spPr>
          <a:xfrm>
            <a:off x="0" y="22860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MS PGothic"/>
              </a:rPr>
              <a:t>Knowledge: Readiness for Enhanced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Definition: The presence or acquisition of cognitive Information related to a specific topic is sufficient for meeting health-related goals and can be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0" y="2201760"/>
          <a:ext cx="8991720" cy="5011920"/>
        </p:xfrm>
        <a:graphic>
          <a:graphicData uri="http://schemas.openxmlformats.org/drawingml/2006/table">
            <a:tbl>
              <a:tblPr/>
              <a:tblGrid>
                <a:gridCol w="2359080"/>
                <a:gridCol w="2209680"/>
                <a:gridCol w="2211480"/>
                <a:gridCol w="2211480"/>
              </a:tblGrid>
              <a:tr h="854280"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 – NIC LINKAGES FOR READINESS FOR ENHANCED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8680"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: Health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Extent of understanding conveyed about the promotion and protection of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Fac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rning Readiness Enhan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lth System Gui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unizatio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ccination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Modification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Responsibility Fac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king Cessation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aching: Safe 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tance Use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hicle Safety Pro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NDA-I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22"/>
          <p:cNvGrpSpPr/>
          <p:nvPr/>
        </p:nvGrpSpPr>
        <p:grpSpPr>
          <a:xfrm>
            <a:off x="249120" y="1149480"/>
            <a:ext cx="8926560" cy="5562360"/>
            <a:chOff x="249120" y="1149480"/>
            <a:chExt cx="8926560" cy="5562360"/>
          </a:xfrm>
        </p:grpSpPr>
        <p:sp>
          <p:nvSpPr>
            <p:cNvPr id="503" name="Oval 2"/>
            <p:cNvSpPr/>
            <p:nvPr/>
          </p:nvSpPr>
          <p:spPr>
            <a:xfrm>
              <a:off x="4135680" y="3740040"/>
              <a:ext cx="121932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3"/>
            <p:cNvSpPr/>
            <p:nvPr/>
          </p:nvSpPr>
          <p:spPr>
            <a:xfrm>
              <a:off x="249120" y="4959360"/>
              <a:ext cx="5868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 Box 8"/>
            <p:cNvSpPr/>
            <p:nvPr/>
          </p:nvSpPr>
          <p:spPr>
            <a:xfrm>
              <a:off x="3297240" y="1225440"/>
              <a:ext cx="1905120" cy="19378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Health Edu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65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>
              <a:off x="4251240" y="2979720"/>
              <a:ext cx="265320" cy="835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1"/>
            <p:cNvSpPr/>
            <p:nvPr/>
          </p:nvSpPr>
          <p:spPr>
            <a:xfrm>
              <a:off x="5659920" y="1149480"/>
              <a:ext cx="2793600" cy="1381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elf-Modification Assistance 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44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2"/>
            <p:cNvSpPr/>
            <p:nvPr/>
          </p:nvSpPr>
          <p:spPr>
            <a:xfrm flipH="1">
              <a:off x="5252040" y="2534400"/>
              <a:ext cx="1524960" cy="1477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4"/>
            <p:cNvSpPr/>
            <p:nvPr/>
          </p:nvSpPr>
          <p:spPr>
            <a:xfrm>
              <a:off x="477720" y="1225440"/>
              <a:ext cx="2057400" cy="230364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adiness for Enhanced Knowled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ANDA-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016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15"/>
            <p:cNvSpPr/>
            <p:nvPr/>
          </p:nvSpPr>
          <p:spPr>
            <a:xfrm>
              <a:off x="2565360" y="2903400"/>
              <a:ext cx="1600200" cy="1265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0"/>
            <p:cNvSpPr/>
            <p:nvPr/>
          </p:nvSpPr>
          <p:spPr>
            <a:xfrm>
              <a:off x="6203520" y="3564360"/>
              <a:ext cx="2972160" cy="29761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nowledge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ehavi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8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Knowledge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1"/>
            <p:cNvSpPr/>
            <p:nvPr/>
          </p:nvSpPr>
          <p:spPr>
            <a:xfrm flipH="1" flipV="1">
              <a:off x="5187240" y="4795200"/>
              <a:ext cx="1044720" cy="513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nical Conditions included in the Linkage Boo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7920" y="1371240"/>
            <a:ext cx="7238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th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on and Rectal Canc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rt Fail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neumon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k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Joint Replacement: Hip/Kne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BE9-2E5D-4832-9EE9-A2CBF6D4D85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image0-2.jpg"/>
          <p:cNvPicPr/>
          <p:nvPr/>
        </p:nvPicPr>
        <p:blipFill>
          <a:blip r:embed="rId1"/>
          <a:stretch/>
        </p:blipFill>
        <p:spPr>
          <a:xfrm>
            <a:off x="6437160" y="3124080"/>
            <a:ext cx="2156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4674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tal Joint Replac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233280" y="990720"/>
          <a:ext cx="8834400" cy="5729040"/>
        </p:xfrm>
        <a:graphic>
          <a:graphicData uri="http://schemas.openxmlformats.org/drawingml/2006/table">
            <a:tbl>
              <a:tblPr/>
              <a:tblGrid>
                <a:gridCol w="2341800"/>
                <a:gridCol w="2992320"/>
                <a:gridCol w="3500280"/>
              </a:tblGrid>
              <a:tr h="45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>
                        <a:alpha val="56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jor Interven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ggested Interven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ility to move purposefully in own environment independently with or without assistive de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Therapy: Amb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Therapy:  Joint Mo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y Mechanics Pro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ironmental Manage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Promo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Promotion: Strength Trai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se Promotion: Stretc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 Prevention 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tion: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al or family caregiver actions to minimize risk factors that might precipitate falls in the personal environ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vironmental Management: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ll Prev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tion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f-Care Ass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veillance: 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04920" y="4800600"/>
            <a:ext cx="5867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nical Condition, NIC and NO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22"/>
          <p:cNvGrpSpPr/>
          <p:nvPr/>
        </p:nvGrpSpPr>
        <p:grpSpPr>
          <a:xfrm>
            <a:off x="252360" y="1071720"/>
            <a:ext cx="8880480" cy="5562360"/>
            <a:chOff x="252360" y="1071720"/>
            <a:chExt cx="8880480" cy="5562360"/>
          </a:xfrm>
        </p:grpSpPr>
        <p:sp>
          <p:nvSpPr>
            <p:cNvPr id="522" name="Oval 2"/>
            <p:cNvSpPr/>
            <p:nvPr/>
          </p:nvSpPr>
          <p:spPr>
            <a:xfrm>
              <a:off x="4138560" y="3662280"/>
              <a:ext cx="1218960" cy="121896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t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3"/>
            <p:cNvSpPr/>
            <p:nvPr/>
          </p:nvSpPr>
          <p:spPr>
            <a:xfrm>
              <a:off x="252360" y="4881600"/>
              <a:ext cx="58672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3300120" y="1147680"/>
              <a:ext cx="1904760" cy="192276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rcise Therapy: Amb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22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9"/>
            <p:cNvSpPr/>
            <p:nvPr/>
          </p:nvSpPr>
          <p:spPr>
            <a:xfrm>
              <a:off x="4254120" y="3086640"/>
              <a:ext cx="297000" cy="639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11"/>
            <p:cNvSpPr/>
            <p:nvPr/>
          </p:nvSpPr>
          <p:spPr>
            <a:xfrm>
              <a:off x="5662440" y="1071720"/>
              <a:ext cx="1752480" cy="228852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xercise Therap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Joint Mo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58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2"/>
            <p:cNvSpPr/>
            <p:nvPr/>
          </p:nvSpPr>
          <p:spPr>
            <a:xfrm flipH="1">
              <a:off x="5262840" y="3406680"/>
              <a:ext cx="649800" cy="640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4"/>
            <p:cNvSpPr/>
            <p:nvPr/>
          </p:nvSpPr>
          <p:spPr>
            <a:xfrm>
              <a:off x="480960" y="1147680"/>
              <a:ext cx="2057400" cy="8254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otal Joint Re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5"/>
            <p:cNvSpPr/>
            <p:nvPr/>
          </p:nvSpPr>
          <p:spPr>
            <a:xfrm>
              <a:off x="1448280" y="1978560"/>
              <a:ext cx="2804040" cy="2067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7"/>
            <p:cNvSpPr/>
            <p:nvPr/>
          </p:nvSpPr>
          <p:spPr>
            <a:xfrm>
              <a:off x="404640" y="3404160"/>
              <a:ext cx="2567520" cy="170568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ain 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I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1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 flipV="1">
              <a:off x="2972520" y="4516920"/>
              <a:ext cx="1281600" cy="16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0"/>
            <p:cNvSpPr/>
            <p:nvPr/>
          </p:nvSpPr>
          <p:spPr>
            <a:xfrm>
              <a:off x="5913360" y="4046760"/>
              <a:ext cx="3219480" cy="2547720"/>
            </a:xfrm>
            <a:prstGeom prst="rect">
              <a:avLst/>
            </a:prstGeom>
            <a:solidFill>
              <a:srgbClr val="e2c5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o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NO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02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ompromised S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1"/>
            <p:cNvSpPr/>
            <p:nvPr/>
          </p:nvSpPr>
          <p:spPr>
            <a:xfrm flipH="1" flipV="1">
              <a:off x="5213880" y="4644000"/>
              <a:ext cx="698760" cy="613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219320" y="1595520"/>
            <a:ext cx="803268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 dissertation by Hui-Chen Tseng (2012) data from  patients admitted on 4 oncology units in a tertiary hospital were stud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G=Gynecology, Oral Surgery, &amp; Otolaryngology Unit H=Hematology/Oncology &amp; Pallia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M=Medical Surgical Onc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it A=Adult Leukemia &amp; Bone Marrow Trans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 Focused 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cer Pati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ients with Cance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ui-Chen Tse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Content Placeholder 3" descr=""/>
          <p:cNvPicPr/>
          <p:nvPr/>
        </p:nvPicPr>
        <p:blipFill>
          <a:blip r:embed="rId1"/>
          <a:stretch/>
        </p:blipFill>
        <p:spPr>
          <a:xfrm>
            <a:off x="384120" y="1590840"/>
            <a:ext cx="3121200" cy="45478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2"/>
          <p:cNvSpPr/>
          <p:nvPr/>
        </p:nvSpPr>
        <p:spPr>
          <a:xfrm>
            <a:off x="3352680" y="1600200"/>
            <a:ext cx="51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3,335 hospitalizations provided 2,671 unique patients due to some patients having multiple admissions over the study period (June 1, 2010 - December 31,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429000" y="3276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first admissions for patients with a care plan were entered into the study f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3324240" y="4643280"/>
            <a:ext cx="5576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otal of 2,237 unique patients with a care plan, discharged from four specialty units with a diagnosis of cancer or under investigation for a possible cancer diagnosis were included for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ition of Linka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or relationship that exists between a patient, family, or community problem (nursing diagnosis) and a desired outcome (resolution or improvement of the problem).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change in the outcom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is usually the result of an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terven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y a nurse or other care provider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orhead et al, 2013, p. 571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44756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ve retrospective design using care plan 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otal of 3,335 hospitalizations provided 2,671 unique patients due to some patients having multiple admissions over the study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first admissions for patients with a care plan were entered into the study for analysi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total of 2,237 patients with a possible cancer diagnosis were included for ana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 NANDA-I Diagnoses for 4 Cancer Un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Object 7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737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 NOC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Cancer Un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Object 5" descr=""/>
          <p:cNvPicPr/>
          <p:nvPr/>
        </p:nvPicPr>
        <p:blipFill>
          <a:blip r:embed="rId1"/>
          <a:stretch/>
        </p:blipFill>
        <p:spPr>
          <a:xfrm>
            <a:off x="1371600" y="1681200"/>
            <a:ext cx="77328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 NICs fo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Cancer Uni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Object 5" descr=""/>
          <p:cNvPicPr/>
          <p:nvPr/>
        </p:nvPicPr>
        <p:blipFill>
          <a:blip r:embed="rId1"/>
          <a:stretch/>
        </p:blipFill>
        <p:spPr>
          <a:xfrm>
            <a:off x="1444680" y="1828800"/>
            <a:ext cx="73054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quently Used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Object 5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7094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Validated Outcomes From this Researc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2" descr="C:\Users\moorhead\AppData\Local\Microsoft\Windows\Temporary Internet Files\Content.IE5\4DN5GA82\checklist[1].png"/>
          <p:cNvPicPr/>
          <p:nvPr/>
        </p:nvPicPr>
        <p:blipFill>
          <a:blip r:embed="rId1"/>
          <a:stretch/>
        </p:blipFill>
        <p:spPr>
          <a:xfrm>
            <a:off x="5715000" y="3581280"/>
            <a:ext cx="2523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Text Placeholder 4"/>
          <p:cNvGrpSpPr/>
          <p:nvPr/>
        </p:nvGrpSpPr>
        <p:grpSpPr>
          <a:xfrm>
            <a:off x="2498760" y="176040"/>
            <a:ext cx="2286000" cy="671760"/>
            <a:chOff x="2498760" y="176040"/>
            <a:chExt cx="2286000" cy="671760"/>
          </a:xfrm>
        </p:grpSpPr>
        <p:pic>
          <p:nvPicPr>
            <p:cNvPr id="554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2498760" y="176040"/>
              <a:ext cx="22860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2514600" y="193680"/>
              <a:ext cx="2259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6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68640"/>
          </a:xfrm>
          <a:prstGeom prst="rect">
            <a:avLst/>
          </a:prstGeom>
          <a:ln w="0">
            <a:noFill/>
          </a:ln>
        </p:spPr>
      </p:pic>
      <p:grpSp>
        <p:nvGrpSpPr>
          <p:cNvPr id="557" name="Text Placeholder 2"/>
          <p:cNvGrpSpPr/>
          <p:nvPr/>
        </p:nvGrpSpPr>
        <p:grpSpPr>
          <a:xfrm>
            <a:off x="822240" y="1736640"/>
            <a:ext cx="3689280" cy="652680"/>
            <a:chOff x="822240" y="1736640"/>
            <a:chExt cx="3689280" cy="652680"/>
          </a:xfrm>
        </p:grpSpPr>
        <p:pic>
          <p:nvPicPr>
            <p:cNvPr id="558" name="Text Placeholder 2" descr=""/>
            <p:cNvPicPr/>
            <p:nvPr/>
          </p:nvPicPr>
          <p:blipFill>
            <a:blip r:embed="rId3"/>
            <a:stretch/>
          </p:blipFill>
          <p:spPr>
            <a:xfrm>
              <a:off x="822240" y="1736640"/>
              <a:ext cx="36892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838080" y="1752480"/>
              <a:ext cx="365940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"/>
          <p:cNvSpPr txBox="1"/>
          <p:nvPr/>
        </p:nvSpPr>
        <p:spPr>
          <a:xfrm>
            <a:off x="762120" y="2437920"/>
            <a:ext cx="373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sea &amp; Vomiting Seve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Text Placeholder 4"/>
          <p:cNvGrpSpPr/>
          <p:nvPr/>
        </p:nvGrpSpPr>
        <p:grpSpPr>
          <a:xfrm>
            <a:off x="4627440" y="1719360"/>
            <a:ext cx="4071960" cy="669960"/>
            <a:chOff x="4627440" y="1719360"/>
            <a:chExt cx="4071960" cy="669960"/>
          </a:xfrm>
        </p:grpSpPr>
        <p:pic>
          <p:nvPicPr>
            <p:cNvPr id="562" name="Text Placeholder 4" descr=""/>
            <p:cNvPicPr/>
            <p:nvPr/>
          </p:nvPicPr>
          <p:blipFill>
            <a:blip r:embed="rId4"/>
            <a:stretch/>
          </p:blipFill>
          <p:spPr>
            <a:xfrm>
              <a:off x="4627440" y="1719360"/>
              <a:ext cx="40719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4645080" y="1733400"/>
              <a:ext cx="4041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4773600" y="2438280"/>
            <a:ext cx="3913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sea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A7A4-5482-444D-93E1-AFC22C7E996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15" descr="C:\Users\moorhead\AppData\Local\Microsoft\Windows\Temporary Internet Files\Content.IE5\MJPLQQQW\N1[1].jpg"/>
          <p:cNvPicPr/>
          <p:nvPr/>
        </p:nvPicPr>
        <p:blipFill>
          <a:blip r:embed="rId5"/>
          <a:stretch/>
        </p:blipFill>
        <p:spPr>
          <a:xfrm>
            <a:off x="5943600" y="4114800"/>
            <a:ext cx="21049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Text Placeholder 4"/>
          <p:cNvGrpSpPr/>
          <p:nvPr/>
        </p:nvGrpSpPr>
        <p:grpSpPr>
          <a:xfrm>
            <a:off x="2139840" y="212760"/>
            <a:ext cx="2286000" cy="671400"/>
            <a:chOff x="2139840" y="212760"/>
            <a:chExt cx="2286000" cy="671400"/>
          </a:xfrm>
        </p:grpSpPr>
        <p:pic>
          <p:nvPicPr>
            <p:cNvPr id="568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2139840" y="212760"/>
              <a:ext cx="22860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2157480" y="228600"/>
              <a:ext cx="2255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0" name="Title 3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68640"/>
          </a:xfrm>
          <a:prstGeom prst="rect">
            <a:avLst/>
          </a:prstGeom>
          <a:ln w="0">
            <a:noFill/>
          </a:ln>
        </p:spPr>
      </p:pic>
      <p:grpSp>
        <p:nvGrpSpPr>
          <p:cNvPr id="571" name="Text Placeholder 4"/>
          <p:cNvGrpSpPr/>
          <p:nvPr/>
        </p:nvGrpSpPr>
        <p:grpSpPr>
          <a:xfrm>
            <a:off x="822240" y="1657440"/>
            <a:ext cx="4073760" cy="671400"/>
            <a:chOff x="822240" y="1657440"/>
            <a:chExt cx="4073760" cy="671400"/>
          </a:xfrm>
        </p:grpSpPr>
        <p:pic>
          <p:nvPicPr>
            <p:cNvPr id="572" name="Text Placeholder 4" descr=""/>
            <p:cNvPicPr/>
            <p:nvPr/>
          </p:nvPicPr>
          <p:blipFill>
            <a:blip r:embed="rId3"/>
            <a:stretch/>
          </p:blipFill>
          <p:spPr>
            <a:xfrm>
              <a:off x="822240" y="1657440"/>
              <a:ext cx="40737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838080" y="1676520"/>
              <a:ext cx="4040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762120" y="2361960"/>
            <a:ext cx="373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Leve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Contr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: Disruptive Effe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Text Placeholder 6"/>
          <p:cNvGrpSpPr/>
          <p:nvPr/>
        </p:nvGrpSpPr>
        <p:grpSpPr>
          <a:xfrm>
            <a:off x="5010120" y="1657440"/>
            <a:ext cx="4078440" cy="671400"/>
            <a:chOff x="5010120" y="1657440"/>
            <a:chExt cx="4078440" cy="671400"/>
          </a:xfrm>
        </p:grpSpPr>
        <p:pic>
          <p:nvPicPr>
            <p:cNvPr id="576" name="Text Placeholder 6" descr=""/>
            <p:cNvPicPr/>
            <p:nvPr/>
          </p:nvPicPr>
          <p:blipFill>
            <a:blip r:embed="rId4"/>
            <a:stretch/>
          </p:blipFill>
          <p:spPr>
            <a:xfrm>
              <a:off x="5010120" y="1657440"/>
              <a:ext cx="40784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5029200" y="1676520"/>
              <a:ext cx="4041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 txBox="1"/>
          <p:nvPr/>
        </p:nvSpPr>
        <p:spPr>
          <a:xfrm>
            <a:off x="5029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gesic Admini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Sup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58F5-094D-4637-B2BA-E641E8B16BD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5" descr="C:\Users\moorhead\AppData\Local\Microsoft\Windows\Temporary Internet Files\Content.IE5\0M1VH00N\back-pain[1].png"/>
          <p:cNvPicPr/>
          <p:nvPr/>
        </p:nvPicPr>
        <p:blipFill>
          <a:blip r:embed="rId5"/>
          <a:stretch/>
        </p:blipFill>
        <p:spPr>
          <a:xfrm>
            <a:off x="533520" y="464832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Text Placeholder 4"/>
          <p:cNvGrpSpPr/>
          <p:nvPr/>
        </p:nvGrpSpPr>
        <p:grpSpPr>
          <a:xfrm>
            <a:off x="1968480" y="212760"/>
            <a:ext cx="2286000" cy="671400"/>
            <a:chOff x="1968480" y="212760"/>
            <a:chExt cx="2286000" cy="671400"/>
          </a:xfrm>
        </p:grpSpPr>
        <p:pic>
          <p:nvPicPr>
            <p:cNvPr id="582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1968480" y="212760"/>
              <a:ext cx="22860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981080" y="228600"/>
              <a:ext cx="2259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NDA-I   Chronic Pa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patient Cancer Pati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Text Placeholder 2"/>
          <p:cNvGrpSpPr/>
          <p:nvPr/>
        </p:nvGrpSpPr>
        <p:grpSpPr>
          <a:xfrm>
            <a:off x="822240" y="1736640"/>
            <a:ext cx="4073760" cy="671760"/>
            <a:chOff x="822240" y="1736640"/>
            <a:chExt cx="4073760" cy="671760"/>
          </a:xfrm>
        </p:grpSpPr>
        <p:pic>
          <p:nvPicPr>
            <p:cNvPr id="586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822240" y="1736640"/>
              <a:ext cx="407376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838080" y="1752480"/>
              <a:ext cx="40402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914040" y="2362320"/>
            <a:ext cx="3583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Level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: Disruptive Effec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Text Placeholder 4"/>
          <p:cNvGrpSpPr/>
          <p:nvPr/>
        </p:nvGrpSpPr>
        <p:grpSpPr>
          <a:xfrm>
            <a:off x="5089680" y="1736640"/>
            <a:ext cx="3609720" cy="652680"/>
            <a:chOff x="5089680" y="1736640"/>
            <a:chExt cx="3609720" cy="652680"/>
          </a:xfrm>
        </p:grpSpPr>
        <p:pic>
          <p:nvPicPr>
            <p:cNvPr id="590" name="Text Placeholder 4" descr=""/>
            <p:cNvPicPr/>
            <p:nvPr/>
          </p:nvPicPr>
          <p:blipFill>
            <a:blip r:embed="rId3"/>
            <a:stretch/>
          </p:blipFill>
          <p:spPr>
            <a:xfrm>
              <a:off x="5089680" y="1736640"/>
              <a:ext cx="36097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105520" y="1752480"/>
              <a:ext cx="3581280" cy="62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 txBox="1"/>
          <p:nvPr/>
        </p:nvSpPr>
        <p:spPr>
          <a:xfrm>
            <a:off x="5105520" y="243792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n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lgesic Admini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otional Sup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8B02-E71E-4422-807B-6F0559F5570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5" descr="C:\Users\moorhead\AppData\Local\Microsoft\Windows\Temporary Internet Files\Content.IE5\S35A67QI\PGIS_ChronicPain-150x150[1].jpg"/>
          <p:cNvPicPr/>
          <p:nvPr/>
        </p:nvPicPr>
        <p:blipFill>
          <a:blip r:embed="rId4"/>
          <a:stretch/>
        </p:blipFill>
        <p:spPr>
          <a:xfrm>
            <a:off x="152280" y="41911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Text Placeholder 4"/>
          <p:cNvGrpSpPr/>
          <p:nvPr/>
        </p:nvGrpSpPr>
        <p:grpSpPr>
          <a:xfrm>
            <a:off x="907920" y="103320"/>
            <a:ext cx="2286000" cy="671400"/>
            <a:chOff x="907920" y="103320"/>
            <a:chExt cx="2286000" cy="671400"/>
          </a:xfrm>
        </p:grpSpPr>
        <p:pic>
          <p:nvPicPr>
            <p:cNvPr id="596" name="Text Placeholder 4" descr=""/>
            <p:cNvPicPr/>
            <p:nvPr/>
          </p:nvPicPr>
          <p:blipFill>
            <a:blip r:embed="rId1"/>
            <a:stretch/>
          </p:blipFill>
          <p:spPr>
            <a:xfrm>
              <a:off x="907920" y="103320"/>
              <a:ext cx="22860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920880" y="122400"/>
              <a:ext cx="2259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8" name="Title 1" descr=""/>
          <p:cNvPicPr/>
          <p:nvPr/>
        </p:nvPicPr>
        <p:blipFill>
          <a:blip r:embed="rId2"/>
          <a:stretch/>
        </p:blipFill>
        <p:spPr>
          <a:xfrm>
            <a:off x="457200" y="36360"/>
            <a:ext cx="8229600" cy="1268640"/>
          </a:xfrm>
          <a:prstGeom prst="rect">
            <a:avLst/>
          </a:prstGeom>
          <a:ln w="0">
            <a:noFill/>
          </a:ln>
        </p:spPr>
      </p:pic>
      <p:grpSp>
        <p:nvGrpSpPr>
          <p:cNvPr id="599" name="Text Placeholder 2"/>
          <p:cNvGrpSpPr/>
          <p:nvPr/>
        </p:nvGrpSpPr>
        <p:grpSpPr>
          <a:xfrm>
            <a:off x="743040" y="1657440"/>
            <a:ext cx="3768480" cy="677880"/>
            <a:chOff x="743040" y="1657440"/>
            <a:chExt cx="3768480" cy="677880"/>
          </a:xfrm>
        </p:grpSpPr>
        <p:pic>
          <p:nvPicPr>
            <p:cNvPr id="600" name="Text Placeholder 2" descr=""/>
            <p:cNvPicPr/>
            <p:nvPr/>
          </p:nvPicPr>
          <p:blipFill>
            <a:blip r:embed="rId3"/>
            <a:stretch/>
          </p:blipFill>
          <p:spPr>
            <a:xfrm>
              <a:off x="743040" y="1657440"/>
              <a:ext cx="376848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762120" y="1676520"/>
              <a:ext cx="37353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 txBox="1"/>
          <p:nvPr/>
        </p:nvSpPr>
        <p:spPr>
          <a:xfrm>
            <a:off x="380520" y="2437920"/>
            <a:ext cx="411660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ssue Integrity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n &amp; Mucou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ran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rn Hea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Text Placeholder 4"/>
          <p:cNvGrpSpPr/>
          <p:nvPr/>
        </p:nvGrpSpPr>
        <p:grpSpPr>
          <a:xfrm>
            <a:off x="4627440" y="1663560"/>
            <a:ext cx="4071960" cy="671760"/>
            <a:chOff x="4627440" y="1663560"/>
            <a:chExt cx="4071960" cy="671760"/>
          </a:xfrm>
        </p:grpSpPr>
        <p:pic>
          <p:nvPicPr>
            <p:cNvPr id="604" name="Text Placeholder 4" descr=""/>
            <p:cNvPicPr/>
            <p:nvPr/>
          </p:nvPicPr>
          <p:blipFill>
            <a:blip r:embed="rId4"/>
            <a:stretch/>
          </p:blipFill>
          <p:spPr>
            <a:xfrm>
              <a:off x="4627440" y="1663560"/>
              <a:ext cx="407196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645080" y="1681200"/>
              <a:ext cx="4041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 txBox="1"/>
          <p:nvPr/>
        </p:nvSpPr>
        <p:spPr>
          <a:xfrm>
            <a:off x="4645080" y="2320920"/>
            <a:ext cx="4346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und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in Surveill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ure Manageme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ure Ulcer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izure Preca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t Ca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298-9A76-4A6F-8853-EA7EE74C104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3" descr="C:\Users\moorhead\AppData\Local\Microsoft\Windows\Temporary Internet Files\Content.IE5\O0UAGXY1\469781013[1].jpg"/>
          <p:cNvPicPr/>
          <p:nvPr/>
        </p:nvPicPr>
        <p:blipFill>
          <a:blip r:embed="rId5"/>
          <a:stretch/>
        </p:blipFill>
        <p:spPr>
          <a:xfrm>
            <a:off x="457200" y="502920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elp nurses address the complexity of patient care situations in a focused manner consistent with the nursing proc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3" descr="C:\Users\ssweeney\AppData\Local\Microsoft\Windows\Temporary Internet Files\Content.IE5\SYIE5PHN\constructivism[1].jpg"/>
          <p:cNvPicPr/>
          <p:nvPr/>
        </p:nvPicPr>
        <p:blipFill>
          <a:blip r:embed="rId1"/>
          <a:stretch/>
        </p:blipFill>
        <p:spPr>
          <a:xfrm>
            <a:off x="3124080" y="3276720"/>
            <a:ext cx="55022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TextBox 6"/>
          <p:cNvGrpSpPr/>
          <p:nvPr/>
        </p:nvGrpSpPr>
        <p:grpSpPr>
          <a:xfrm>
            <a:off x="1968480" y="237960"/>
            <a:ext cx="2286000" cy="579600"/>
            <a:chOff x="1968480" y="237960"/>
            <a:chExt cx="2286000" cy="579600"/>
          </a:xfrm>
        </p:grpSpPr>
        <p:pic>
          <p:nvPicPr>
            <p:cNvPr id="610" name="TextBox 6" descr=""/>
            <p:cNvPicPr/>
            <p:nvPr/>
          </p:nvPicPr>
          <p:blipFill>
            <a:blip r:embed="rId1"/>
            <a:stretch/>
          </p:blipFill>
          <p:spPr>
            <a:xfrm>
              <a:off x="1968480" y="237960"/>
              <a:ext cx="228600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982880" y="252360"/>
              <a:ext cx="2259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NDA-I   Risk for Fal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patient Cancer Pati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Text Placeholder 2"/>
          <p:cNvGrpSpPr/>
          <p:nvPr/>
        </p:nvGrpSpPr>
        <p:grpSpPr>
          <a:xfrm>
            <a:off x="743040" y="1657440"/>
            <a:ext cx="3768480" cy="731880"/>
            <a:chOff x="743040" y="1657440"/>
            <a:chExt cx="3768480" cy="731880"/>
          </a:xfrm>
        </p:grpSpPr>
        <p:pic>
          <p:nvPicPr>
            <p:cNvPr id="614" name="Text Placeholder 2" descr=""/>
            <p:cNvPicPr/>
            <p:nvPr/>
          </p:nvPicPr>
          <p:blipFill>
            <a:blip r:embed="rId2"/>
            <a:stretch/>
          </p:blipFill>
          <p:spPr>
            <a:xfrm>
              <a:off x="743040" y="1657440"/>
              <a:ext cx="37684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62120" y="1676520"/>
              <a:ext cx="373536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O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 txBox="1"/>
          <p:nvPr/>
        </p:nvSpPr>
        <p:spPr>
          <a:xfrm>
            <a:off x="837720" y="2437920"/>
            <a:ext cx="365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: Fall Preven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Prevention Behavi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Text Placeholder 4"/>
          <p:cNvGrpSpPr/>
          <p:nvPr/>
        </p:nvGrpSpPr>
        <p:grpSpPr>
          <a:xfrm>
            <a:off x="4632480" y="1657440"/>
            <a:ext cx="4066920" cy="731880"/>
            <a:chOff x="4632480" y="1657440"/>
            <a:chExt cx="4066920" cy="731880"/>
          </a:xfrm>
        </p:grpSpPr>
        <p:pic>
          <p:nvPicPr>
            <p:cNvPr id="618" name="Text Placeholder 4" descr=""/>
            <p:cNvPicPr/>
            <p:nvPr/>
          </p:nvPicPr>
          <p:blipFill>
            <a:blip r:embed="rId3"/>
            <a:stretch/>
          </p:blipFill>
          <p:spPr>
            <a:xfrm>
              <a:off x="4632480" y="1657440"/>
              <a:ext cx="406692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4648320" y="1676520"/>
              <a:ext cx="403848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lidated N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4644720" y="237312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Preven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758-37F0-45A2-806D-5D1C501DECB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5" descr="C:\Users\moorhead\AppData\Local\Microsoft\Windows\Temporary Internet Files\Content.IE5\H7LXC61C\falling_man[1].jpg"/>
          <p:cNvPicPr/>
          <p:nvPr/>
        </p:nvPicPr>
        <p:blipFill>
          <a:blip r:embed="rId4"/>
          <a:stretch/>
        </p:blipFill>
        <p:spPr>
          <a:xfrm>
            <a:off x="4648320" y="3262320"/>
            <a:ext cx="41018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Specialty Pract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16292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C provides outcomes for specialty prac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er insight to the holistic view of nursing outcomes from all domains in taxonom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s important scope of practice of the special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s of core curriculum for specialty area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1400" indent="-221400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specialties could identify a short list of 20 outco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finition: Core Outcom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102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concise set of outcomes that capture the essence of specialty practice but is not comprehensive enough to include all outcomes used by nurses working in that special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4" descr="C:\Users\moorhead\AppData\Local\Microsoft\Windows\Temporary Internet Files\Content.IE5\PB77U8QG\Core-design-logo[1].png"/>
          <p:cNvPicPr/>
          <p:nvPr/>
        </p:nvPicPr>
        <p:blipFill>
          <a:blip r:embed="rId1"/>
          <a:stretch/>
        </p:blipFill>
        <p:spPr>
          <a:xfrm>
            <a:off x="5486400" y="5410080"/>
            <a:ext cx="31748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Research Focused on Use of NOC in Specialty Practi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Outcom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2" descr="C:\Users\moorhead\AppData\Local\Microsoft\Windows\Temporary Internet Files\Content.IE5\HCM8UFFZ\MP900409080[1].jpg"/>
          <p:cNvPicPr/>
          <p:nvPr/>
        </p:nvPicPr>
        <p:blipFill>
          <a:blip r:embed="rId1"/>
          <a:srcRect l="0" t="0" r="9985" b="0"/>
          <a:stretch/>
        </p:blipFill>
        <p:spPr>
          <a:xfrm>
            <a:off x="7010280" y="3657600"/>
            <a:ext cx="15192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rontology Nursing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p 7 Outc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ritional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 Healt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ritional Status: Energ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tritional Status: Food &amp; Fluid Intak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inary Elim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Prevention Behavi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l Sig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18" descr="C:\Users\ssweeney\AppData\Local\Microsoft\Windows\Temporary Internet Files\Content.IE5\GJJ05Y5V\MPj04075010000[1].jpg"/>
          <p:cNvPicPr/>
          <p:nvPr/>
        </p:nvPicPr>
        <p:blipFill>
          <a:blip r:embed="rId1"/>
          <a:stretch/>
        </p:blipFill>
        <p:spPr>
          <a:xfrm>
            <a:off x="6248520" y="4951440"/>
            <a:ext cx="2819160" cy="187956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" descr="C:\Users\ssweeney\AppData\Local\Microsoft\Windows\Temporary Internet Files\Content.IE5\OJBM2HND\MPj04223440000[1].jpg"/>
          <p:cNvPicPr/>
          <p:nvPr/>
        </p:nvPicPr>
        <p:blipFill>
          <a:blip r:embed="rId2"/>
          <a:stretch/>
        </p:blipFill>
        <p:spPr>
          <a:xfrm>
            <a:off x="7515360" y="45720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-Surgical Nursing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p 8 Outco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ital Sig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lf-Care:  Toileti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utritional Status:  Food and Fluid Intak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nowledge:  Medic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mbulation:  Walki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ysical Aging Statu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2" descr="C:\Users\moorhead\AppData\Local\Microsoft\Windows\Temporary Internet Files\Content.IE5\HCM8UFFZ\MP900426551[1].jpg"/>
          <p:cNvPicPr/>
          <p:nvPr/>
        </p:nvPicPr>
        <p:blipFill>
          <a:blip r:embed="rId1"/>
          <a:stretch/>
        </p:blipFill>
        <p:spPr>
          <a:xfrm>
            <a:off x="5791320" y="3352680"/>
            <a:ext cx="3047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ology is Everywhere in Our Personal Lif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3" descr="C:\Users\moorhead\AppData\Local\Microsoft\Windows\Temporary Internet Files\Content.IE5\3HHFX2XN\0[1].jpg"/>
          <p:cNvPicPr/>
          <p:nvPr/>
        </p:nvPicPr>
        <p:blipFill>
          <a:blip r:embed="rId1"/>
          <a:stretch/>
        </p:blipFill>
        <p:spPr>
          <a:xfrm>
            <a:off x="2286000" y="1523880"/>
            <a:ext cx="617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9320" y="2313000"/>
            <a:ext cx="723888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12 Strategies for Using NNN in Electronic Health Record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371600" y="471024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more paper char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Picture 2" descr="C:\Users\moorhead\AppData\Local\Microsoft\Windows\Temporary Internet Files\Content.IE5\0H7R2KEU\Digital-Hospital-262-wide[1].jpg"/>
          <p:cNvPicPr/>
          <p:nvPr/>
        </p:nvPicPr>
        <p:blipFill>
          <a:blip r:embed="rId1"/>
          <a:stretch/>
        </p:blipFill>
        <p:spPr>
          <a:xfrm>
            <a:off x="1981080" y="379440"/>
            <a:ext cx="2514600" cy="16668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5" descr="C:\Users\moorhead\AppData\Local\Microsoft\Windows\Temporary Internet Files\Content.IE5\ACH2MYM1\centricityemr_productimage[1].gif"/>
          <p:cNvPicPr/>
          <p:nvPr/>
        </p:nvPicPr>
        <p:blipFill>
          <a:blip r:embed="rId2"/>
          <a:stretch/>
        </p:blipFill>
        <p:spPr>
          <a:xfrm>
            <a:off x="6005520" y="112680"/>
            <a:ext cx="2809800" cy="22003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C:\Users\moorhead\AppData\Local\Microsoft\Windows\Temporary Internet Files\Content.IE5\G61T11NZ\081111_medicocom2-300x198[1].jpg"/>
          <p:cNvPicPr/>
          <p:nvPr/>
        </p:nvPicPr>
        <p:blipFill>
          <a:blip r:embed="rId3"/>
          <a:stretch/>
        </p:blipFill>
        <p:spPr>
          <a:xfrm>
            <a:off x="6270480" y="4956120"/>
            <a:ext cx="285768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219320" y="14479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know very little about the focus of nursing care in our organiz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top 10 nursing diagnoses used in your organization &amp; top 10 for each un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he most frequently used nursing interventions for the organization and each un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top outcomes for your organization and each un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Strategy #2 for Using NNN</a:t>
            </a:r>
            <a:br>
              <a:rPr sz="4200"/>
            </a:br>
            <a:endParaRPr b="1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47920" y="1752480"/>
            <a:ext cx="7238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key patient popul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plans of care using NN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NNN linkages for orientation of new staff or stud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llect data to build evidence-based practi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 trends in outcomes for    populations over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s the development of NANDA-I diagnoses, NOC outcomes and NIC interventions thus increasing the knowledge base of nurs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" descr="C:\Users\moorhead\AppData\Local\Microsoft\Windows\Temporary Internet Files\Content.IE5\MJPLQQQW\knowledge_ignorance[1].jpg"/>
          <p:cNvPicPr/>
          <p:nvPr/>
        </p:nvPicPr>
        <p:blipFill>
          <a:blip r:embed="rId1"/>
          <a:stretch/>
        </p:blipFill>
        <p:spPr>
          <a:xfrm>
            <a:off x="1523880" y="3886200"/>
            <a:ext cx="6096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3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219320" y="15998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most organizations the top 10 nursing diagnoses account for 85% of the patients treated by the organization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: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EHR does not need to include all concepts from NANDA-I, NIC, and NOC.  Start small, add as you identify other diagnoses, outcomes, and interventions you ne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4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218960" y="1447560"/>
            <a:ext cx="7467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 on NNN is critical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n for several sessions of orientation; double or triple the time allocated for learning the bas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essions work better than long presentations; hands on be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ence with computer applications does shorten the tim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5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218960" y="1294920"/>
            <a:ext cx="7467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 studies developed by nurses in your organization are most usefu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ase studies need to fit the patients the nurses care for every d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need to have several opportunities to rate outcomes for a patient over the hospital stay as the situation cha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ing outcomes will be the biggest challen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6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218960" y="14479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most hospitals teaching interventions are close to 50% of treatm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 teaching interventions in every care p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 the teaching strategies to the patient’s knowledg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stomize the teaching to the patient’s preferred learning sty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7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218960" y="1219320"/>
            <a:ext cx="7467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t Champions are useful as change ag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want to include nurses that will resist the chan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pare Champions for answering basic questions about NN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Champions to build unit case studie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eneral, younger nurses handle the IT issues more easi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8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1218960" y="1447560"/>
            <a:ext cx="7467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comes can be used and shared across disciplines- they are about the pat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of NOC can increase interdisciplinary practice collabora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 a focus on a team approach to c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e outcomes of current practice quarter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9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ients need to be able to care for their chronic health conditions after discharg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nowledge outcomes for specific conditions help the patient learn about their health challen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Management outcomes support behavior changes that improve healt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ient can measure their progress post discharg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0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 competencies need to be evaluat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 can be used to measure nurse competency (yearly or at time of hir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ency evaluation should be consistent with nurses work setting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who work in multiple settings should maintain a longer competency li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tency can determine who “floats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1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want to get feedback on their performance that has mean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comes of individual nurses can be sha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with the best patient outcomes can share their strategies in meeting patient need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rses can be rewarded for their care- to increase satisfac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tegy #12 for Using NN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218960" y="1371240"/>
            <a:ext cx="7467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cus is on getting data in the EH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to focus also on getting data ou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re reports you want with the vendo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nefits of Link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475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s nurses to be knowledge workers in society and recognized for their experti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" descr="C:\Users\moorhead\AppData\Local\Microsoft\Windows\Temporary Internet Files\Content.IE5\H7LXC61C\knowledge_worker[1].jpg"/>
          <p:cNvPicPr/>
          <p:nvPr/>
        </p:nvPicPr>
        <p:blipFill>
          <a:blip r:embed="rId1"/>
          <a:stretch/>
        </p:blipFill>
        <p:spPr>
          <a:xfrm>
            <a:off x="3048120" y="3124080"/>
            <a:ext cx="3771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Key to the Futu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r efforts in language development have placed nursing in a key position to provide important key concepts for the electronic health record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portunities exist to use actual nursing data to conduct outcome evaluation, quality improvement, and effectiveness research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ursing is poised to be a leader in this endeavor! 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7848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47920" y="1371240"/>
            <a:ext cx="76197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lechek, G., Butcher, H., Dochterman, J., &amp; Wagner, C. (Eds.). (2013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ursing interventions classification (NIC) (6th ed.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St. Louis: Elsevi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erdman, T. H. &amp; Kamitsuro, S. (Eds.). (2015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ANDA International nursing diagnoses: Definitions and classification 2015-20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Oxford, UK: Wiley-Blackwel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ohnson, M., Moorhead, S., Bulechek, G., Butcher, H., Maas, M., &amp; Swanson, E. (Eds.). (2012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OC and NIC linkages to NANDA-I and clinical conditions: Supporting critical reasoning and quality car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(3rd ed.). Maryland Heights, MO: Elsevier Mosby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orhead, S., Johnson, M., Maas, M., &amp; Swanson, E. (Eds.). (2013)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Nursing outcomes classification (NOC): Measurement of health outcomes (5th ed.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 St. Louis: Elsevier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21896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" descr="C:\Users\moorhead\AppData\Local\Microsoft\Windows\Temporary Internet Files\Content.IE5\12Z0CADB\10582_bigstock-Questions-8[1].jpg"/>
          <p:cNvPicPr/>
          <p:nvPr/>
        </p:nvPicPr>
        <p:blipFill>
          <a:blip r:embed="rId2"/>
          <a:stretch/>
        </p:blipFill>
        <p:spPr>
          <a:xfrm>
            <a:off x="167652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Content Placeholder 2"/>
          <p:cNvSpPr/>
          <p:nvPr/>
        </p:nvSpPr>
        <p:spPr>
          <a:xfrm>
            <a:off x="1295280" y="2895480"/>
            <a:ext cx="7763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6996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e Moorhead, PhD, RN, F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ssociate Professor &amp; Director Center for Nursing Classification &amp; Clinical Effe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University of Iowa  College of Nur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owa City, Iowa 52242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e-moorhead@uiowa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lassification-center@uiowa.edu 319-335-70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Group 2"/>
          <p:cNvGrpSpPr/>
          <p:nvPr/>
        </p:nvGrpSpPr>
        <p:grpSpPr>
          <a:xfrm>
            <a:off x="1222200" y="533520"/>
            <a:ext cx="7925040" cy="2133360"/>
            <a:chOff x="1222200" y="533520"/>
            <a:chExt cx="7925040" cy="2133360"/>
          </a:xfrm>
        </p:grpSpPr>
        <p:sp>
          <p:nvSpPr>
            <p:cNvPr id="678" name="Rectangle 3"/>
            <p:cNvSpPr/>
            <p:nvPr/>
          </p:nvSpPr>
          <p:spPr>
            <a:xfrm>
              <a:off x="1222200" y="1295280"/>
              <a:ext cx="792504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7" descr="redbud"/>
            <p:cNvPicPr/>
            <p:nvPr/>
          </p:nvPicPr>
          <p:blipFill>
            <a:blip r:embed="rId1"/>
            <a:stretch/>
          </p:blipFill>
          <p:spPr>
            <a:xfrm>
              <a:off x="4661280" y="533520"/>
              <a:ext cx="3785040" cy="213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0" name="Group 2"/>
          <p:cNvGrpSpPr/>
          <p:nvPr/>
        </p:nvGrpSpPr>
        <p:grpSpPr>
          <a:xfrm>
            <a:off x="1547640" y="914400"/>
            <a:ext cx="2586240" cy="1139760"/>
            <a:chOff x="1547640" y="914400"/>
            <a:chExt cx="2586240" cy="1139760"/>
          </a:xfrm>
        </p:grpSpPr>
        <p:pic>
          <p:nvPicPr>
            <p:cNvPr id="681" name="Picture 3" descr="CONHorizontalBlack"/>
            <p:cNvPicPr/>
            <p:nvPr/>
          </p:nvPicPr>
          <p:blipFill>
            <a:blip r:embed="rId2"/>
            <a:stretch/>
          </p:blipFill>
          <p:spPr>
            <a:xfrm>
              <a:off x="1650960" y="914400"/>
              <a:ext cx="22676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4"/>
            <p:cNvSpPr/>
            <p:nvPr/>
          </p:nvSpPr>
          <p:spPr>
            <a:xfrm>
              <a:off x="1870920" y="1635120"/>
              <a:ext cx="226296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The Center for Nursing Classification &amp; Clinical Effectivene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3" name="Picture 0" descr="CNC Logo NOwords.tif"/>
            <p:cNvPicPr/>
            <p:nvPr/>
          </p:nvPicPr>
          <p:blipFill>
            <a:blip r:embed="rId3"/>
            <a:srcRect l="0" t="0" r="16759" b="23898"/>
            <a:stretch/>
          </p:blipFill>
          <p:spPr>
            <a:xfrm>
              <a:off x="1547640" y="1622160"/>
              <a:ext cx="411120" cy="35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213012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Using NOC Measurement Scales: Case Study Examp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3" descr="C:\Users\ssweeney\AppData\Local\Microsoft\Windows\Temporary Internet Files\Content.IE5\51UUINOY\Old_man_in_Kyrgyzstan,_2010[1].jpg"/>
          <p:cNvPicPr/>
          <p:nvPr/>
        </p:nvPicPr>
        <p:blipFill>
          <a:blip r:embed="rId1"/>
          <a:srcRect l="43138" t="0" r="0" b="0"/>
          <a:stretch/>
        </p:blipFill>
        <p:spPr>
          <a:xfrm>
            <a:off x="5943600" y="3641760"/>
            <a:ext cx="26668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16:00:59Z</dcterms:created>
  <dc:creator>Sharon K. Sweeney</dc:creator>
  <dc:description/>
  <dc:language>en-US</dc:language>
  <cp:lastModifiedBy>moorhead</cp:lastModifiedBy>
  <cp:lastPrinted>2017-11-03T19:44:52Z</cp:lastPrinted>
  <dcterms:modified xsi:type="dcterms:W3CDTF">2017-11-15T22:42:50Z</dcterms:modified>
  <cp:revision>69</cp:revision>
  <dc:subject/>
  <dc:title>Slide 1</dc:title>
</cp:coreProperties>
</file>